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6D4B2-C1DE-42FA-8A81-9F65147B5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AC86A-92D2-469C-A652-DD24A7BC7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6067F-89CB-4735-BBF3-02CDDB5C2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FA89F-1C45-4BD5-951E-D2A27320B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46B00-9833-4DB8-9144-B1F43FA1B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2B805-01A5-4D55-BF6A-0843AE054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5B772-006E-426C-9808-F1559C0C4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E82DD-6DED-4AF0-B78A-4377F041C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F7EA8-E8A0-4863-9E07-80374F75C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C31F1-21AB-4550-8624-01A15E3C6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23F89-6838-4E29-95A5-F2D72EDAA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BE3A7-C878-4407-B50D-7BE28B81F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42E86-4737-42A5-BF37-2A11125C8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6B91E-305A-469C-A2CA-358B8C75D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4D5E3-0134-47DA-82BC-E90653B62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11BBD-E8A7-43CF-A98C-6BCF4190E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9B40F-47D7-45D0-A507-5B08FDF3F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EB403-B45C-4274-8366-3B860B09E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7BE31-B870-460D-A48A-A2ECB7C8D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6D3A2-5583-4677-901D-56BD1D1BB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6D419-C1B3-4F83-B27A-F8CDFC68E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F67C7-0413-4996-9578-508067F4F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BFF1A-5AC3-432F-9DAB-5A49165F2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25C6A-80A0-4F39-B363-8D9628E18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D1997-B844-4B39-A22E-C7222B5B280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71C60-0DEA-4CF3-8D2A-ABAD70A6D43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La Casa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 Jordan Silverm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9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El Garaj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 un garaje. Es bell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676520" y="2666880"/>
            <a:ext cx="6016680" cy="347364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La Mansión</a:t>
            </a: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 una mansion. Es bonita y lujos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143000" y="2743200"/>
            <a:ext cx="6858000" cy="359244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            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La Cocina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 una cocina. Es bella y nuev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" descr="Large-kitchen-wooden-cupboards-shelves-and-countertop-with-chairs"/>
          <p:cNvPicPr/>
          <p:nvPr/>
        </p:nvPicPr>
        <p:blipFill>
          <a:blip r:embed="rId1"/>
          <a:stretch/>
        </p:blipFill>
        <p:spPr>
          <a:xfrm>
            <a:off x="1523880" y="2666880"/>
            <a:ext cx="6629400" cy="33814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La Sala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 una sala. Es fabulosa y nuev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838080" y="2666880"/>
            <a:ext cx="8001000" cy="33624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El Comedor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 un comedor. Es lujoso y modern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" descr="big white luxury dining table and chairs"/>
          <p:cNvPicPr/>
          <p:nvPr/>
        </p:nvPicPr>
        <p:blipFill>
          <a:blip r:embed="rId1"/>
          <a:stretch/>
        </p:blipFill>
        <p:spPr>
          <a:xfrm>
            <a:off x="838080" y="2590920"/>
            <a:ext cx="8001000" cy="3485880"/>
          </a:xfrm>
          <a:prstGeom prst="rect">
            <a:avLst/>
          </a:prstGeom>
          <a:ln w="0">
            <a:noFill/>
          </a:ln>
        </p:spPr>
      </p:pic>
    </p:spTree>
  </p:cSld>
  <p:transition spd="slow">
    <p:pull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El Baño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 un b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ñ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. Es grande y incre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838080" y="2590920"/>
            <a:ext cx="8001000" cy="350496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El Cuarto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 un cuarto. Es Bello y antigu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2362320" y="2971800"/>
            <a:ext cx="4343400" cy="31147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El Jardin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 un jardin. Es nuevo y gran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838080" y="2666880"/>
            <a:ext cx="7925040" cy="3429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El Patio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 un patio. Es moderno y lujos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295280" y="2743200"/>
            <a:ext cx="6905880" cy="330516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1T17:39:57Z</dcterms:created>
  <dc:creator>silvermanjor</dc:creator>
  <dc:description/>
  <dc:language>en-US</dc:language>
  <cp:lastModifiedBy>silvermanjor</cp:lastModifiedBy>
  <dcterms:modified xsi:type="dcterms:W3CDTF">2011-10-25T16:10:50Z</dcterms:modified>
  <cp:revision>14</cp:revision>
  <dc:subject/>
  <dc:title>La Casa</dc:title>
</cp:coreProperties>
</file>